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50576-8F74-440F-BE34-5CC5BE270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A75AB-F95B-4138-8350-E505DC30E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3F13A-05DB-478F-BDBC-63F8E485E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D9A24-2F0F-478D-860F-23BC2F4EF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F9FE3F-E41F-4214-A051-D6DAC5C66A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6BDE9-9924-4C8B-9CFC-48E5CEBEA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C102D-BFF6-4D25-B6DF-624C3FDBD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44876-5408-4DFD-8A7F-4632080D3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95988B-9819-4CC6-A26A-EC4177EBC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E6CC8-4D12-4900-8BE3-D6AAD7533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050B4-7768-4293-A7AB-EE5B12E18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DC400-0B1B-43A7-B671-C1CA89FB4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764B8-4088-4029-9770-C2D8B14F5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81F54-B46A-42E2-B294-5BD2EE63F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0FB88A-1E9E-4C53-875E-53384FA9C0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F7CC8B-BA84-4A11-8DC6-0AFFE7DF7B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602248-5667-4273-BEA1-92DC3D488B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8602D-82BB-4302-812E-0D63877E9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6AA24-EAC0-4B1A-A9F5-68C15FFC4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504D5-52D1-438F-BE0A-BC9948C1B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85000-2C4F-4575-9DC6-43DC41656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7D18D-2CD9-40FA-BE41-1F0A355E4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B66C4-7941-49AF-86D2-01A7B988F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767AC-BCB2-4085-B3E4-1922486BD5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06A01-7EE6-40B8-B234-672AA0A6F774}"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5" name=""/>
          <p:cNvGrpSpPr/>
          <p:nvPr/>
        </p:nvGrpSpPr>
        <p:grpSpPr>
          <a:xfrm>
            <a:off x="0" y="0"/>
            <a:ext cx="8458200" cy="5943600"/>
            <a:chOff x="0" y="0"/>
            <a:chExt cx="8458200" cy="5943600"/>
          </a:xfrm>
        </p:grpSpPr>
        <p:sp>
          <p:nvSpPr>
            <p:cNvPr id="46"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9"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50"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83061-CC9D-459A-9199-4A717F5CEBC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1"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tvdsb.on.ca/westmin/science/sbi3a1/digest/digdiag.htm" TargetMode="External"/><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kidshealth.org/kid/body/digest_noSW.html" TargetMode="External"/><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68580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he Digestive System</a:t>
            </a:r>
            <a:endParaRPr b="0" lang="en-US" sz="5400" spc="-1" strike="noStrike">
              <a:solidFill>
                <a:srgbClr val="ffffcc"/>
              </a:solidFill>
              <a:latin typeface="Tahoma"/>
            </a:endParaRPr>
          </a:p>
        </p:txBody>
      </p:sp>
      <p:pic>
        <p:nvPicPr>
          <p:cNvPr id="90" name="" descr=""/>
          <p:cNvPicPr/>
          <p:nvPr/>
        </p:nvPicPr>
        <p:blipFill>
          <a:blip r:embed="rId1"/>
          <a:stretch/>
        </p:blipFill>
        <p:spPr>
          <a:xfrm>
            <a:off x="3429000" y="2819520"/>
            <a:ext cx="2643120" cy="3430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uth</a:t>
            </a:r>
            <a:br>
              <a:rPr sz="3200"/>
            </a:b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zymes in the saliva begin digestion of carbohydrat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sophagus</a:t>
            </a:r>
            <a:br>
              <a:rPr sz="3200"/>
            </a:b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sophagus is a muscular tube. It takes food from the throat and pushes it down through the neck, and into the stomach.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moves food by waves of muscle contraction called peristals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
        <p:nvSpPr>
          <p:cNvPr id="108" name="PlaceHolder 2"/>
          <p:cNvSpPr>
            <a:spLocks noGrp="1"/>
          </p:cNvSpPr>
          <p:nvPr>
            <p:ph/>
          </p:nvPr>
        </p:nvSpPr>
        <p:spPr>
          <a:xfrm>
            <a:off x="304560" y="1599840"/>
            <a:ext cx="883908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tomach</a:t>
            </a:r>
            <a:br>
              <a:rPr sz="3200"/>
            </a:b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tomach has thick muscles in its wall. These contract to mash the food into a water soup called chym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tomach lining produces strong digestive juice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
        <p:nvSpPr>
          <p:cNvPr id="110" name="PlaceHolder 2"/>
          <p:cNvSpPr>
            <a:spLocks noGrp="1"/>
          </p:cNvSpPr>
          <p:nvPr>
            <p:ph/>
          </p:nvPr>
        </p:nvSpPr>
        <p:spPr>
          <a:xfrm>
            <a:off x="304560" y="2057400"/>
            <a:ext cx="8839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tomach</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create chemical reactions in the stomach, breaking down and dissolving its nutrient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
        <p:nvSpPr>
          <p:cNvPr id="112" name="PlaceHolder 2"/>
          <p:cNvSpPr>
            <a:spLocks noGrp="1"/>
          </p:cNvSpPr>
          <p:nvPr>
            <p:ph/>
          </p:nvPr>
        </p:nvSpPr>
        <p:spPr>
          <a:xfrm>
            <a:off x="304920" y="1905120"/>
            <a:ext cx="82296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mall Intestin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part of the digestive tract is narrow, but very long - about 20 fee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zymes continue the chemical reactions on the foo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
        <p:nvSpPr>
          <p:cNvPr id="114" name="PlaceHolder 2"/>
          <p:cNvSpPr>
            <a:spLocks noGrp="1"/>
          </p:cNvSpPr>
          <p:nvPr>
            <p:ph/>
          </p:nvPr>
        </p:nvSpPr>
        <p:spPr>
          <a:xfrm>
            <a:off x="304560" y="1752480"/>
            <a:ext cx="8458200" cy="46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mall Intestin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nutrients are broken down small enough to pass through the lining of the small intestine, and into the blood (diffusion).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trients are carried away to the liver and other body parts to be processed, stored and distribut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
        <p:nvSpPr>
          <p:cNvPr id="116" name="PlaceHolder 2"/>
          <p:cNvSpPr>
            <a:spLocks noGrp="1"/>
          </p:cNvSpPr>
          <p:nvPr>
            <p:ph/>
          </p:nvPr>
        </p:nvSpPr>
        <p:spPr>
          <a:xfrm>
            <a:off x="456840" y="1980720"/>
            <a:ext cx="80010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arge Intestine</a:t>
            </a:r>
            <a:br>
              <a:rPr sz="3200"/>
            </a:b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ful substances that were not absorbed in the small intestine, such as spare water and body minerals, are absorbed through the walls of the large intestine, back into the bloo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
        <p:nvSpPr>
          <p:cNvPr id="118" name="PlaceHolder 2"/>
          <p:cNvSpPr>
            <a:spLocks noGrp="1"/>
          </p:cNvSpPr>
          <p:nvPr>
            <p:ph/>
          </p:nvPr>
        </p:nvSpPr>
        <p:spPr>
          <a:xfrm>
            <a:off x="609120" y="1980720"/>
            <a:ext cx="7620120" cy="449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arge Intestine</a:t>
            </a:r>
            <a:br>
              <a:rPr sz="3200"/>
            </a:b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mains are formed into brown, semi-solid feces, ready to be removed from the bod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
        <p:nvSpPr>
          <p:cNvPr id="121" name="PlaceHolder 2"/>
          <p:cNvSpPr>
            <a:spLocks noGrp="1"/>
          </p:cNvSpPr>
          <p:nvPr>
            <p:ph/>
          </p:nvPr>
        </p:nvSpPr>
        <p:spPr>
          <a:xfrm>
            <a:off x="380880" y="1828800"/>
            <a:ext cx="8229600" cy="449568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ctum and Anus</a:t>
            </a:r>
            <a:br>
              <a:rPr sz="3200"/>
            </a:b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nd of the large intestine and the next part of the tract, the rectum, store the feces. </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ces are finally squeezed through a ring of muscle, the anus, and out of the b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w is food digested?</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ancreas</a:t>
            </a:r>
            <a:br>
              <a:rPr sz="3200"/>
            </a:b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ancreas, like the stomach, makes digestive juices called enzymes which help to digest food further as it enters the small intestin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
        <p:nvSpPr>
          <p:cNvPr id="125" name="PlaceHolder 2"/>
          <p:cNvSpPr>
            <a:spLocks noGrp="1"/>
          </p:cNvSpPr>
          <p:nvPr>
            <p:ph/>
          </p:nvPr>
        </p:nvSpPr>
        <p:spPr>
          <a:xfrm>
            <a:off x="304920" y="2133360"/>
            <a:ext cx="8229600" cy="3733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all Bladder</a:t>
            </a:r>
            <a:br>
              <a:rPr sz="3200"/>
            </a:b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mall baglike part under the liv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stores a fluid called bile, which is made in the liv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
        <p:nvSpPr>
          <p:cNvPr id="127"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all Bladder</a:t>
            </a:r>
            <a:br>
              <a:rPr sz="3200"/>
            </a:b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food from a meal enters the small intestine, bile flows from the gall bladder along the bile duct into the intestine. </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helps to digest fatty foods and also contains wastes for remova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
        <p:nvSpPr>
          <p:cNvPr id="129" name="PlaceHolder 2"/>
          <p:cNvSpPr>
            <a:spLocks noGrp="1"/>
          </p:cNvSpPr>
          <p:nvPr>
            <p:ph/>
          </p:nvPr>
        </p:nvSpPr>
        <p:spPr>
          <a:xfrm>
            <a:off x="456840" y="2362320"/>
            <a:ext cx="838188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iver</a:t>
            </a:r>
            <a:br>
              <a:rPr sz="3200"/>
            </a:b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lood from the intestines enters to the liver, carrying nutrients, vitamins and minerals, and other products from diges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
        <p:nvSpPr>
          <p:cNvPr id="131" name="PlaceHolder 2"/>
          <p:cNvSpPr>
            <a:spLocks noGrp="1"/>
          </p:cNvSpPr>
          <p:nvPr>
            <p:ph/>
          </p:nvPr>
        </p:nvSpPr>
        <p:spPr>
          <a:xfrm>
            <a:off x="304560" y="1905120"/>
            <a:ext cx="838188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iver</a:t>
            </a:r>
            <a:br>
              <a:rPr sz="3200"/>
            </a:b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iver is like a food-processing factory with more than 200 different jobs. It stores some nutrients, changes them from one form to another, and releases them into the blood according to the activities and needs of the b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To quiz yourself over the parts of the digestive system, click here:</a:t>
            </a:r>
            <a:endParaRPr b="0" lang="en-US" sz="4800" spc="-1" strike="noStrike">
              <a:solidFill>
                <a:srgbClr val="ffffcc"/>
              </a:solidFill>
              <a:latin typeface="Tahoma"/>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1"/>
              </a:rPr>
              <a:t>http://www.tvdsb.on.ca/westmin/science/sbi3a1/digest/digdiag.htm</a:t>
            </a:r>
            <a:r>
              <a:rPr b="0" lang="en-US" sz="3200" spc="-1" strike="noStrike" u="sng">
                <a:solidFill>
                  <a:srgbClr val="ffffff"/>
                </a:solidFill>
                <a:uFillTx/>
                <a:latin typeface="Tahoma"/>
              </a:rPr>
              <a:t> </a:t>
            </a:r>
            <a:endParaRPr b="0" lang="en-US" sz="32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scribe water</a:t>
            </a:r>
            <a:endParaRPr b="0" lang="en-US" sz="44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of the nutrients in your body can't be used unless they are carried in a solution. This means that they have to be dissolved in wat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cells, chemical reactions take place in solutions. </a:t>
            </a:r>
            <a:endParaRPr b="0" lang="en-US" sz="32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scribe water</a:t>
            </a:r>
            <a:endParaRPr b="0" lang="en-US" sz="44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of the material absorbed from the cavity of the small intestine is water in which salt is dissolve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lt and water come from the food and liquid we swallow and the juices secreted by the many digestive glands.</a:t>
            </a:r>
            <a:endParaRPr b="0" lang="en-US" sz="32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For more information about the digestive system, click here:</a:t>
            </a:r>
            <a:endParaRPr b="0" lang="en-US" sz="4800" spc="-1" strike="noStrike">
              <a:solidFill>
                <a:srgbClr val="ffffcc"/>
              </a:solidFill>
              <a:latin typeface="Tahoma"/>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1"/>
              </a:rPr>
              <a:t>http://kidshealth.org/kid/body/digest_noSW.html</a:t>
            </a:r>
            <a:r>
              <a:rPr b="0" lang="en-US" sz="3200" spc="-1" strike="noStrike" u="sng">
                <a:solidFill>
                  <a:srgbClr val="ffffff"/>
                </a:solidFill>
                <a:uFillTx/>
                <a:latin typeface="Tahoma"/>
              </a:rPr>
              <a:t> </a:t>
            </a: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w is food digested?</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gestion involves:</a:t>
            </a:r>
            <a:endParaRPr b="0" lang="en-US" sz="3200" spc="-1" strike="noStrike">
              <a:solidFill>
                <a:srgbClr val="ffffff"/>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eaking down of food into smaller pieces</a:t>
            </a:r>
            <a:endParaRPr b="0" lang="en-US" sz="3200" spc="-1" strike="noStrike">
              <a:solidFill>
                <a:srgbClr val="ffffff"/>
              </a:solidFill>
              <a:latin typeface="Tahoma"/>
            </a:endParaRPr>
          </a:p>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ixing of food</a:t>
            </a:r>
            <a:endParaRPr b="0" lang="en-US" sz="3200" spc="-1" strike="noStrike">
              <a:solidFill>
                <a:srgbClr val="ffffff"/>
              </a:solidFill>
              <a:latin typeface="Tahoma"/>
            </a:endParaRPr>
          </a:p>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vement through the digestive tract</a:t>
            </a:r>
            <a:endParaRPr b="0" lang="en-US" sz="3200" spc="-1" strike="noStrike">
              <a:solidFill>
                <a:srgbClr val="ffffff"/>
              </a:solidFill>
              <a:latin typeface="Tahoma"/>
            </a:endParaRPr>
          </a:p>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emical breakdown of the large molecules of food into smaller molecules. </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scribe the digestive system</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scribe the digestive system</a:t>
            </a:r>
            <a:endParaRPr b="0" lang="en-US" sz="44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igestive tract is a series of hollow organs joined in a tube from the mouth to the anus.  Food passes through the digestive trac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essory organs include the liver, gall bladder, and pancreas.  Food does not pass through these organs.</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the organs of the digestive system</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the organs of the digestive system</a:t>
            </a:r>
            <a:endParaRPr b="0" lang="en-US" sz="4000" spc="-1" strike="noStrike">
              <a:solidFill>
                <a:srgbClr val="ffffcc"/>
              </a:solidFill>
              <a:latin typeface="Tahoma"/>
            </a:endParaRPr>
          </a:p>
        </p:txBody>
      </p:sp>
      <p:pic>
        <p:nvPicPr>
          <p:cNvPr id="99" name="" descr="The digestive system"/>
          <p:cNvPicPr/>
          <p:nvPr/>
        </p:nvPicPr>
        <p:blipFill>
          <a:blip r:embed="rId1"/>
          <a:stretch/>
        </p:blipFill>
        <p:spPr>
          <a:xfrm>
            <a:off x="2362320" y="1752480"/>
            <a:ext cx="4647960" cy="4513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uth</a:t>
            </a:r>
            <a:br>
              <a:rPr sz="3200"/>
            </a:b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eth bite off and chew food into a soft pulp that is easy to swallow.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ewing mixes the food with saliva, from salivary glands around the mouth and face, to make it moist and easy to swallow.</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03:04:49Z</dcterms:created>
  <dc:creator>Mary Poarch</dc:creator>
  <dc:description/>
  <dc:language>en-US</dc:language>
  <cp:lastModifiedBy>Mary Poarch</cp:lastModifiedBy>
  <dcterms:modified xsi:type="dcterms:W3CDTF">2005-02-13T21:19:17Z</dcterms:modified>
  <cp:revision>51</cp:revision>
  <dc:subject/>
  <dc:title>Nutrition &amp; Diges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17169659</vt:r8>
  </property>
  <property fmtid="{D5CDD505-2E9C-101B-9397-08002B2CF9AE}" pid="3" name="_AuthorEmail">
    <vt:lpwstr>mpoarch@ahisd.net</vt:lpwstr>
  </property>
  <property fmtid="{D5CDD505-2E9C-101B-9397-08002B2CF9AE}" pid="4" name="_AuthorEmailDisplayName">
    <vt:lpwstr>Mary Poarch</vt:lpwstr>
  </property>
  <property fmtid="{D5CDD505-2E9C-101B-9397-08002B2CF9AE}" pid="5" name="_EmailSubject">
    <vt:lpwstr/>
  </property>
  <property fmtid="{D5CDD505-2E9C-101B-9397-08002B2CF9AE}" pid="6" name="_ReviewingToolsShownOnce">
    <vt:lpwstr/>
  </property>
</Properties>
</file>